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6DBE-1ECB-45AA-970A-EDA170D97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EE9-E004-468E-9B07-73D6A65E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A35B-2480-41D1-925C-7CF60BC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451C-7759-4963-AAE5-BE63EA79D4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BE1B-0394-4EC7-A152-47B0CCE8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2882-E063-4CC2-9607-980C036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85E2-DF9B-4B0D-A0AD-DA78F1D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C6F2-3DB2-4A52-9259-0EAF4F3B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BDC8-8EBE-46BB-88A2-C18DA80F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5A25-EC52-4EAE-B539-E7D0F658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7F92-DE6D-4E7D-AC7E-2696552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BEE9-7B5D-445E-90FB-F61B5B60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23564-6D4C-4CE8-9BC2-18E0A840A809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ing: small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 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[10]=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foo(&amp;p,a) gets address of p and can do *p =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f p is in shared memory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foo(&amp;p) gets (typically) different addres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Good to know about shared m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Physical memory is always mapped to actual addresses by the op system: physical memory pages are mapped differently ea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locate 1M of shared 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t block at address, say 5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nother process “attaches” to memory, gets address 8 0000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Opsystem 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eneral term: mutexes, semaphor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ctual api-s in o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th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Lock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et us take a variable L as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read it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&gt;= 0 (nobody is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++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-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P wants to write it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 L is 0 (nobody is reading/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t L to -1 (i am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set L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Cache and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variable should be full cac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ache line is typically 64 or 12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read but somebody is wri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heck thatL&gt;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What to do when L=-1?? (somebody wri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op until L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fter a short while do a pause yielding control to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crease each time th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Queue i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ach process has its own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mplement as a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lement: lock and offset t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R     0     R     W     R     R    R   R   W  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2 cores, 2 processors : works 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Original article: 128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one more process than core, then ca 1000 times performance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Write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omebody always reading, cannot ever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Pause X microsec after every 100 reading: no reading allowed (roughly what sqlite does: regularly give priority to wri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Waiting writer sets a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After 100 steps check flag? If flag, no readers started during X micro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Make our own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pinlock with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Always when several processes use the same resource concurr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Memory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Why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Want to write to row X po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But: actually a lot more is d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Index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tatistics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he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Etc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rac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ay we have N web apps on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Typical shared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. Has transactions: built-in l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Files. Similar to databases: built-in l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 structures in memory? No universal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Basic lock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Global read-write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rbitrary many processes can read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If a process X writes, then no other process may read or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Alterna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Coordina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lock-free algorith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Write a copy of new data, new index pag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Finally do an atomic “swap/switch” to new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mon: multiprocess databases (mysql, postgresql, oracle jne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Library” databases (sqlit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ukustamise asi teistmoodi kui “suurt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Parallelis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Mem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Processes: shared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Threads: shared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Comb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Local process memory + commo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DejaVu Sans"/>
              </a:rPr>
              <a:t>Interprocess com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ockets (like net: sockets connected to 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Shared memor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Google andr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9:21Z</dcterms:created>
  <dc:creator>tanel</dc:creator>
  <dc:description/>
  <dc:language>en-US</dc:language>
  <cp:lastModifiedBy>tanel</cp:lastModifiedBy>
  <dcterms:modified xsi:type="dcterms:W3CDTF">2009-12-02T15:31:31Z</dcterms:modified>
  <cp:revision>18</cp:revision>
  <dc:subject/>
  <dc:title>Locking: small intro</dc:title>
</cp:coreProperties>
</file>